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3846240" y="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624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6280"/>
                <a:tab algn="l" pos="2057400"/>
                <a:tab algn="l" pos="24685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11120"/>
                <a:tab algn="l" pos="822240"/>
                <a:tab algn="l" pos="1233360"/>
                <a:tab algn="l" pos="1646280"/>
                <a:tab algn="l" pos="2057400"/>
                <a:tab algn="l" pos="24685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7D001-7870-4C4F-B987-4C478B9C637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DC0D4-1BC0-4694-A6C2-056A1C9C1F0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DD660-D6A5-465F-9584-013C997E03A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16C01-87D8-403E-904F-D3BF542E23B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96B65-E293-42AD-9250-9C95BD5DEC8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FCAD1-77C6-4ED6-A352-D4A878B6988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11120"/>
                <a:tab algn="l" pos="822240"/>
                <a:tab algn="l" pos="1233360"/>
                <a:tab algn="l" pos="1646280"/>
                <a:tab algn="l" pos="2057400"/>
                <a:tab algn="l" pos="2468520"/>
                <a:tab algn="l" pos="288144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49629-7359-4BC2-8892-C876031382F3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A6994-3EAB-4775-9822-40C31A99EAA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BF1EA-2152-4350-83CB-0E94EFBC3D45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A5158-F53E-46C5-91F4-3EBA8C001866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D4994-0B23-40ED-A3BF-08C041AFD7B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52AEC-8471-4A2D-9D3A-7EEC557EFD4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3846600" y="942984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46865-1F90-4FCB-A95F-1A77B6AAF4E5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-3636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395280" y="-243000"/>
            <a:ext cx="1354320" cy="2276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324000" y="1802160"/>
            <a:ext cx="85690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перспективах развит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зической культуры и спор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том числе по месту житель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целях формирования здорового образа жизни насе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ветского рай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нты-Мансийского автоно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круга - Ю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179280" y="-316080"/>
            <a:ext cx="1354320" cy="2232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1979640" y="780120"/>
            <a:ext cx="604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468360" y="1933560"/>
            <a:ext cx="799128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совершенствование системы оплаты труда работник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реждений, оказывающих услуги в сфере физ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ы и спор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медицинское обеспечение физкультурно-спортив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й и профильных образовате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реждений, осуществляющих подготовку спортив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ер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развитие спортивной инфраструктуры, в том числ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развитие  систем дворовых спортивно-игро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ощадок в рамках реализации Приоритет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ционального проекта «Формирование комфор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родско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179280" y="-316080"/>
            <a:ext cx="1354320" cy="2232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1979640" y="610200"/>
            <a:ext cx="60483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сновные задачи на ближайший пери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68360" y="1921320"/>
            <a:ext cx="7991280" cy="43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завершение внедрения Комплекса ВФСК ГТО сред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х возрастных и социальных групп населения и е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льнейшее развит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повышение уровня бюджетного и внебюджет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нансирование отрасли, в том числе в рамках прое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униципально - частного партнер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общее поддержание темпов развития инфраструк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ового спорта, прежде всего шаговой доступ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разработка программы системной поддержки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ышения качества жизни людей старшего поко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редством включения их  в  занятия физи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ультурой и массовым спор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-36360" y="115920"/>
            <a:ext cx="9178920" cy="6742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395280" y="-243000"/>
            <a:ext cx="1354320" cy="2276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24000" y="1883520"/>
            <a:ext cx="8569080" cy="51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физической куль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массового спорта стало неотъемлемой частью здорового образа жизни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спешного развития российского обществ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К концу следующего десятилетия Россия должна уверенно войти в клуб стран – «80 плю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20600" y="0"/>
            <a:ext cx="9264600" cy="693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395280" y="-243000"/>
            <a:ext cx="1354320" cy="2276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24000" y="2426040"/>
            <a:ext cx="856908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Одна из позитивных тенденций развития российского обществ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т интереса населения стр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здоровому образу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нистр спорта РФ  П.А.Колоб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179280" y="-316080"/>
            <a:ext cx="1354320" cy="2232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1979640" y="573480"/>
            <a:ext cx="60483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Численность систематически занимающихся физической культурой и спортом в Советском районе за 2017 г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468360" y="2208960"/>
            <a:ext cx="799128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17996 человек (39,3% от общей численности насе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етского райо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в том числе обучающихся в образовательны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х  составляет  9412 человек (92% от общ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ли    обучающихс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из них 1161 человек находится на стадии спортив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готовки (12,3% от общей чис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учающихся в образовательных  организация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атически занимающихся физической культур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спорт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179280" y="-316080"/>
            <a:ext cx="1354320" cy="223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292720" y="189000"/>
            <a:ext cx="3313080" cy="317016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  <p:pic>
        <p:nvPicPr>
          <p:cNvPr id="65" name="Picture 10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2686320" cy="402732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  <p:pic>
        <p:nvPicPr>
          <p:cNvPr id="66" name="Picture 11" descr=""/>
          <p:cNvPicPr/>
          <p:nvPr/>
        </p:nvPicPr>
        <p:blipFill>
          <a:blip r:embed="rId5"/>
          <a:stretch/>
        </p:blipFill>
        <p:spPr>
          <a:xfrm>
            <a:off x="3708360" y="3573360"/>
            <a:ext cx="4321080" cy="287352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  <p:pic>
        <p:nvPicPr>
          <p:cNvPr id="67" name="Picture 12" descr=""/>
          <p:cNvPicPr/>
          <p:nvPr/>
        </p:nvPicPr>
        <p:blipFill>
          <a:blip r:embed="rId6"/>
          <a:stretch/>
        </p:blipFill>
        <p:spPr>
          <a:xfrm>
            <a:off x="1979640" y="189000"/>
            <a:ext cx="2806560" cy="187164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-3636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395280" y="-243000"/>
            <a:ext cx="1354320" cy="2276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опия DSC_0044"/>
          <p:cNvPicPr/>
          <p:nvPr/>
        </p:nvPicPr>
        <p:blipFill>
          <a:blip r:embed="rId3"/>
          <a:stretch/>
        </p:blipFill>
        <p:spPr>
          <a:xfrm>
            <a:off x="3132000" y="260280"/>
            <a:ext cx="3665520" cy="264636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  <p:pic>
        <p:nvPicPr>
          <p:cNvPr id="73" name="Picture 9" descr=""/>
          <p:cNvPicPr/>
          <p:nvPr/>
        </p:nvPicPr>
        <p:blipFill>
          <a:blip r:embed="rId4"/>
          <a:stretch/>
        </p:blipFill>
        <p:spPr>
          <a:xfrm>
            <a:off x="4788000" y="3068640"/>
            <a:ext cx="3994200" cy="266220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  <p:pic>
        <p:nvPicPr>
          <p:cNvPr id="74" name="Picture 11" descr="image"/>
          <p:cNvPicPr/>
          <p:nvPr/>
        </p:nvPicPr>
        <p:blipFill>
          <a:blip r:embed="rId5"/>
          <a:stretch/>
        </p:blipFill>
        <p:spPr>
          <a:xfrm>
            <a:off x="324000" y="3068640"/>
            <a:ext cx="3527280" cy="270828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  <p:pic>
        <p:nvPicPr>
          <p:cNvPr id="75" name="Picture 12" descr="20171109_155303(0)"/>
          <p:cNvPicPr/>
          <p:nvPr/>
        </p:nvPicPr>
        <p:blipFill>
          <a:blip r:embed="rId6"/>
          <a:stretch/>
        </p:blipFill>
        <p:spPr>
          <a:xfrm>
            <a:off x="3203640" y="5078520"/>
            <a:ext cx="2736720" cy="160812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179280" y="-316080"/>
            <a:ext cx="1354320" cy="223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_34A7159"/>
          <p:cNvPicPr/>
          <p:nvPr/>
        </p:nvPicPr>
        <p:blipFill>
          <a:blip r:embed="rId3"/>
          <a:stretch/>
        </p:blipFill>
        <p:spPr>
          <a:xfrm>
            <a:off x="755640" y="3357720"/>
            <a:ext cx="3005280" cy="319248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  <p:pic>
        <p:nvPicPr>
          <p:cNvPr id="81" name="Picture 9" descr=""/>
          <p:cNvPicPr/>
          <p:nvPr/>
        </p:nvPicPr>
        <p:blipFill>
          <a:blip r:embed="rId4"/>
          <a:stretch/>
        </p:blipFill>
        <p:spPr>
          <a:xfrm>
            <a:off x="2556000" y="260280"/>
            <a:ext cx="4522680" cy="280188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  <p:pic>
        <p:nvPicPr>
          <p:cNvPr id="82" name="Picture 12" descr=""/>
          <p:cNvPicPr/>
          <p:nvPr/>
        </p:nvPicPr>
        <p:blipFill>
          <a:blip r:embed="rId5"/>
          <a:stretch/>
        </p:blipFill>
        <p:spPr>
          <a:xfrm>
            <a:off x="4716360" y="3357720"/>
            <a:ext cx="3449880" cy="322092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179280" y="-316080"/>
            <a:ext cx="1354320" cy="2232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835280" y="189000"/>
            <a:ext cx="3251160" cy="24382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88" name="Picture 10" descr=""/>
          <p:cNvPicPr/>
          <p:nvPr/>
        </p:nvPicPr>
        <p:blipFill>
          <a:blip r:embed="rId4"/>
          <a:stretch/>
        </p:blipFill>
        <p:spPr>
          <a:xfrm>
            <a:off x="250920" y="2781360"/>
            <a:ext cx="3600360" cy="26985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5"/>
          <a:stretch/>
        </p:blipFill>
        <p:spPr>
          <a:xfrm>
            <a:off x="5508720" y="189000"/>
            <a:ext cx="3251160" cy="243828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5076720" y="2781360"/>
            <a:ext cx="3745080" cy="28083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91" name="Picture 16" descr=""/>
          <p:cNvPicPr/>
          <p:nvPr/>
        </p:nvPicPr>
        <p:blipFill>
          <a:blip r:embed="rId7"/>
          <a:stretch/>
        </p:blipFill>
        <p:spPr>
          <a:xfrm>
            <a:off x="2771640" y="4221000"/>
            <a:ext cx="3251160" cy="24386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179280" y="-316080"/>
            <a:ext cx="1354320" cy="2232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468360" y="1820880"/>
            <a:ext cx="79912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ограниченными возможностями здоровья, инвал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ветском районе – 239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 них дети – 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нимаются адаптивной физической культурой и спортом в Советском райо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58920" y="4149720"/>
          <a:ext cx="6769080" cy="1033560"/>
        </p:xfrm>
        <a:graphic>
          <a:graphicData uri="http://schemas.openxmlformats.org/drawingml/2006/table">
            <a:tbl>
              <a:tblPr/>
              <a:tblGrid>
                <a:gridCol w="1692360"/>
                <a:gridCol w="1692000"/>
                <a:gridCol w="1692360"/>
                <a:gridCol w="1692360"/>
              </a:tblGrid>
              <a:tr h="54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 5 лет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-18 лет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-79 лет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щая численность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 человек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6 человек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 человек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 человека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5800" y="2130480"/>
            <a:ext cx="77724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371600" y="3886200"/>
            <a:ext cx="640080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-34920" y="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179280" y="-316080"/>
            <a:ext cx="1354320" cy="2232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3"/>
          <a:stretch/>
        </p:blipFill>
        <p:spPr>
          <a:xfrm>
            <a:off x="324000" y="3789360"/>
            <a:ext cx="4176720" cy="271476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  <p:pic>
        <p:nvPicPr>
          <p:cNvPr id="103" name="Picture 10" descr=""/>
          <p:cNvPicPr/>
          <p:nvPr/>
        </p:nvPicPr>
        <p:blipFill>
          <a:blip r:embed="rId4"/>
          <a:stretch/>
        </p:blipFill>
        <p:spPr>
          <a:xfrm>
            <a:off x="4716360" y="3789360"/>
            <a:ext cx="4103640" cy="272880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  <p:pic>
        <p:nvPicPr>
          <p:cNvPr id="104" name="Picture 13" descr=""/>
          <p:cNvPicPr/>
          <p:nvPr/>
        </p:nvPicPr>
        <p:blipFill>
          <a:blip r:embed="rId5"/>
          <a:stretch/>
        </p:blipFill>
        <p:spPr>
          <a:xfrm>
            <a:off x="2266920" y="189000"/>
            <a:ext cx="5184720" cy="3457440"/>
          </a:xfrm>
          <a:prstGeom prst="rect">
            <a:avLst/>
          </a:prstGeom>
          <a:ln w="12600">
            <a:solidFill>
              <a:srgbClr val="3333cc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4:03:35Z</dcterms:created>
  <dc:creator>Нина Николаевна Долобан</dc:creator>
  <dc:description/>
  <cp:keywords/>
  <dc:language>en-US</dc:language>
  <cp:lastModifiedBy>SklyarovaMS</cp:lastModifiedBy>
  <cp:lastPrinted>2018-04-27T05:53:29Z</cp:lastPrinted>
  <dcterms:modified xsi:type="dcterms:W3CDTF">2018-04-27T05:53:54Z</dcterms:modified>
  <cp:revision>8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6</vt:r8>
  </property>
</Properties>
</file>